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BBC-0C71-4D1D-BCC8-B54D479C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124-BF51-49B9-90B6-65770A64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9F4-2EA9-4F0A-BB33-B93EF8C5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8F1-4D16-4B13-9D43-ABCBFE69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532-C11E-4036-A8FB-89124C76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D9B2-8B25-4BE8-A839-F9A24A88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2EBE-8447-46D1-B907-7B341E91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5E7-FC6E-41A3-BBDC-6BA265A0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D2E-F7A7-477F-8A0D-6A5C431F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DA11-E349-497B-A951-060ECBD7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552-D720-4FBB-9180-658E1A99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81D-EE8E-4F92-AAEC-7D6BBA41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40B0-DF0C-4254-8E6E-133C886B9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88000" y="1125360"/>
            <a:ext cx="4319640" cy="20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2720" y="333360"/>
            <a:ext cx="6046200" cy="503280"/>
            <a:chOff x="612720" y="333360"/>
            <a:chExt cx="6046200" cy="503280"/>
          </a:xfrm>
        </p:grpSpPr>
        <p:sp>
          <p:nvSpPr>
            <p:cNvPr id="43" name=""/>
            <p:cNvSpPr/>
            <p:nvPr/>
          </p:nvSpPr>
          <p:spPr>
            <a:xfrm>
              <a:off x="614520" y="376200"/>
              <a:ext cx="604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UNIDAD 9: VOLCANES EN ERUPCIÓN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12720" y="333360"/>
              <a:ext cx="587520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4826160" y="1203480"/>
            <a:ext cx="54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Los volc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24360" y="171612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Relieve volcá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26160" y="2198520"/>
            <a:ext cx="46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Tipos de actividad volcánic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26160" y="259560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Riesgo volcá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360" y="1197000"/>
            <a:ext cx="3770280" cy="4824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4108320" cy="2214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0920" y="1700280"/>
            <a:ext cx="4249800" cy="313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79280" y="1125360"/>
            <a:ext cx="44262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ELIEVE VOLCÁ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549360"/>
            <a:ext cx="1513080" cy="580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Otras formas volcán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538200"/>
            <a:ext cx="4248000" cy="587160"/>
          </a:xfrm>
          <a:prstGeom prst="rect">
            <a:avLst/>
          </a:prstGeom>
          <a:solidFill>
            <a:srgbClr val="3ae8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forman cuando el magma sube por las fracturas y solidifica en e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80000" y="1700280"/>
            <a:ext cx="100800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D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57920" y="1413000"/>
            <a:ext cx="4105080" cy="1008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agma ocupa fracturas y solidifica en su interior. Tienen poco grosor y mucha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24360" y="2948040"/>
            <a:ext cx="64764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S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57920" y="2800440"/>
            <a:ext cx="4105080" cy="703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sas tabulares se disponen paralelas a los est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4172040"/>
            <a:ext cx="129528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hime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3862440"/>
            <a:ext cx="4105440" cy="1008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ques de sección circular formados al solidificar el magma en el conducto de s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08000" y="1268280"/>
          <a:ext cx="3314520" cy="22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268280"/>
                    <a:ext cx="331452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250920" y="3716280"/>
            <a:ext cx="30970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554200" y="114480"/>
            <a:ext cx="41054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TIPOS DE ACTIVIDAD VOLCÁ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28800" y="679320"/>
            <a:ext cx="1368360" cy="3373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XPLOS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84800" y="744480"/>
            <a:ext cx="431640" cy="236520"/>
          </a:xfrm>
          <a:custGeom>
            <a:avLst/>
            <a:gdLst>
              <a:gd name="textAreaLeft" fmla="*/ 67320 w 431640"/>
              <a:gd name="textAreaRight" fmla="*/ 378000 w 431640"/>
              <a:gd name="textAreaTop" fmla="*/ 59040 h 236520"/>
              <a:gd name="textAreaBottom" fmla="*/ 177480 h 236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960800" y="620640"/>
            <a:ext cx="2131920" cy="432000"/>
            <a:chOff x="4960800" y="620640"/>
            <a:chExt cx="2131920" cy="432000"/>
          </a:xfrm>
        </p:grpSpPr>
        <p:sp>
          <p:nvSpPr>
            <p:cNvPr id="221" name=""/>
            <p:cNvSpPr/>
            <p:nvPr/>
          </p:nvSpPr>
          <p:spPr>
            <a:xfrm>
              <a:off x="4965840" y="620640"/>
              <a:ext cx="2126880" cy="43200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60800" y="660240"/>
              <a:ext cx="212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ctividad violen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017880" y="1255680"/>
            <a:ext cx="1079280" cy="3373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FUS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84800" y="1320840"/>
            <a:ext cx="431640" cy="236520"/>
          </a:xfrm>
          <a:custGeom>
            <a:avLst/>
            <a:gdLst>
              <a:gd name="textAreaLeft" fmla="*/ 67320 w 431640"/>
              <a:gd name="textAreaRight" fmla="*/ 378000 w 431640"/>
              <a:gd name="textAreaTop" fmla="*/ 59040 h 236520"/>
              <a:gd name="textAreaBottom" fmla="*/ 177480 h 236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960800" y="1197000"/>
            <a:ext cx="2131920" cy="431640"/>
            <a:chOff x="4960800" y="1197000"/>
            <a:chExt cx="2131920" cy="431640"/>
          </a:xfrm>
        </p:grpSpPr>
        <p:sp>
          <p:nvSpPr>
            <p:cNvPr id="226" name=""/>
            <p:cNvSpPr/>
            <p:nvPr/>
          </p:nvSpPr>
          <p:spPr>
            <a:xfrm>
              <a:off x="4965840" y="1197000"/>
              <a:ext cx="2126880" cy="43164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60800" y="1236600"/>
              <a:ext cx="212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ctividad tranqui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65840" y="530640"/>
            <a:ext cx="2957400" cy="2770560"/>
            <a:chOff x="465840" y="530640"/>
            <a:chExt cx="2957400" cy="2770560"/>
          </a:xfrm>
        </p:grpSpPr>
        <p:sp>
          <p:nvSpPr>
            <p:cNvPr id="229" name=""/>
            <p:cNvSpPr/>
            <p:nvPr/>
          </p:nvSpPr>
          <p:spPr>
            <a:xfrm rot="444600">
              <a:off x="612360" y="691920"/>
              <a:ext cx="2664000" cy="2447280"/>
            </a:xfrm>
            <a:prstGeom prst="irregularSeal2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11840" y="1262160"/>
              <a:ext cx="139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¿De qué depende el tipo de actividad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924360" y="1916280"/>
            <a:ext cx="216036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ontenido en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>
            <a:stCxn id="230" idx="3"/>
            <a:endCxn id="231" idx="1"/>
          </p:cNvCxnSpPr>
          <p:nvPr/>
        </p:nvCxnSpPr>
        <p:spPr>
          <a:xfrm>
            <a:off x="2706840" y="1856880"/>
            <a:ext cx="1218240" cy="22788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5508720" y="2276640"/>
            <a:ext cx="3168720" cy="58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acumulación de gases incrementa la explos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17880" y="3057480"/>
            <a:ext cx="216072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Forma del edificio volcá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0" idx="3"/>
            <a:endCxn id="234" idx="1"/>
          </p:cNvCxnSpPr>
          <p:nvPr/>
        </p:nvCxnSpPr>
        <p:spPr>
          <a:xfrm>
            <a:off x="2706840" y="1856880"/>
            <a:ext cx="1211760" cy="1491480"/>
          </a:xfrm>
          <a:prstGeom prst="curvedConnector5">
            <a:avLst>
              <a:gd name="adj1" fmla="val 49925"/>
              <a:gd name="adj2" fmla="val 50000"/>
              <a:gd name="adj3" fmla="val 49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5364000" y="3674160"/>
            <a:ext cx="3306960" cy="833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 la chimenea es profunda, estrecha y se tapona se provocan explo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40360" y="4713120"/>
            <a:ext cx="216036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Viscosidad de la l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0" idx="3"/>
            <a:endCxn id="237" idx="1"/>
          </p:cNvCxnSpPr>
          <p:nvPr/>
        </p:nvCxnSpPr>
        <p:spPr>
          <a:xfrm>
            <a:off x="2706840" y="1857240"/>
            <a:ext cx="1434240" cy="3147120"/>
          </a:xfrm>
          <a:prstGeom prst="curvedConnector5">
            <a:avLst>
              <a:gd name="adj1" fmla="val 34195"/>
              <a:gd name="adj2" fmla="val 49994"/>
              <a:gd name="adj3" fmla="val 341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4211640" y="5362560"/>
            <a:ext cx="3673440" cy="58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 es fluida la actividad es efusiva, si es viscosa explo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11640" y="6010200"/>
            <a:ext cx="4681440" cy="58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pende de la composición de la lava, la temperatura y el contenido de sól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9640" y="4653000"/>
            <a:ext cx="1762200" cy="611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554200" y="114480"/>
            <a:ext cx="41054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TIPOS DE ACTIVIDAD VOLCÁ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679320"/>
            <a:ext cx="2232000" cy="3373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IVIDAD EFUS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71640" y="620640"/>
            <a:ext cx="1762200" cy="611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34040" y="1413000"/>
            <a:ext cx="993600" cy="33732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 flu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1427040"/>
            <a:ext cx="4608720" cy="33732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lava e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asáltica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ale 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ltas temperatu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64000" y="1989000"/>
            <a:ext cx="3600360" cy="58068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lava fluida facilita que se liberen los gases y hay menos explo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2070000"/>
            <a:ext cx="2737080" cy="33732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gase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o se acumu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08360" y="2747880"/>
            <a:ext cx="3083040" cy="58068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lava está a alta temperatura y no hay explo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2862360"/>
            <a:ext cx="3024360" cy="33732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forman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ocos pirocla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763640" y="3357720"/>
            <a:ext cx="3038400" cy="3357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508720" y="4278240"/>
            <a:ext cx="2952720" cy="9169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tipo de actividad efusiva también se conoce com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hawa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554200" y="114480"/>
            <a:ext cx="41054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TIPOS DE ACTIVIDAD VOLCÁ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692280"/>
            <a:ext cx="2521080" cy="3373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IVIDAD EXPLOS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70160" y="620640"/>
            <a:ext cx="1762200" cy="611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3640" y="1413000"/>
            <a:ext cx="4248000" cy="33732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olidifica y obstruye los conductos de sal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40" y="1427040"/>
            <a:ext cx="2448000" cy="33732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lava e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uy visc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64000" y="1989000"/>
            <a:ext cx="3816360" cy="58068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umenta la presión y hay fuertes explosiones que proyectan pirocla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9640" y="2070000"/>
            <a:ext cx="2737080" cy="33732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gases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se acumu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08360" y="2890800"/>
            <a:ext cx="5184720" cy="58068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forman nubes ardientes que se desplazan a gran velocidad sobre el suelo arrasando lo que encuentr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2862360"/>
            <a:ext cx="3024360" cy="58068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forman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bundantes pirocla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87640" y="3645000"/>
            <a:ext cx="5473800" cy="36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diferencian varios niveles de actividad explos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3280" y="4214880"/>
            <a:ext cx="3818160" cy="36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rombolian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La menos viol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43280" y="4718160"/>
            <a:ext cx="2665440" cy="36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ulcanian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Inter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43280" y="5294160"/>
            <a:ext cx="3600720" cy="9169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inian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Muy violenta con explosiones que envían gases y piroclastos hasta alturas de 40k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826920" y="4164120"/>
            <a:ext cx="250524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03640" y="114480"/>
            <a:ext cx="27352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IESGO VOLCÁ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30520" y="620640"/>
            <a:ext cx="1762200" cy="611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950040"/>
            <a:ext cx="1579680" cy="833760"/>
          </a:xfrm>
          <a:prstGeom prst="rect">
            <a:avLst/>
          </a:prstGeom>
          <a:solidFill>
            <a:srgbClr val="3ae8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peligrosidad volcá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807200" y="775080"/>
            <a:ext cx="2604600" cy="1562040"/>
            <a:chOff x="1807200" y="775080"/>
            <a:chExt cx="2604600" cy="1562040"/>
          </a:xfrm>
        </p:grpSpPr>
        <p:sp>
          <p:nvSpPr>
            <p:cNvPr id="271" name=""/>
            <p:cNvSpPr/>
            <p:nvPr/>
          </p:nvSpPr>
          <p:spPr>
            <a:xfrm rot="1319400">
              <a:off x="1895040" y="1123200"/>
              <a:ext cx="2028960" cy="865440"/>
            </a:xfrm>
            <a:custGeom>
              <a:avLst/>
              <a:gdLst/>
              <a:ahLst/>
              <a:rect l="l" t="t" r="r" b="b"/>
              <a:pathLst>
                <a:path w="63" h="30">
                  <a:moveTo>
                    <a:pt x="63" y="0"/>
                  </a:moveTo>
                  <a:lnTo>
                    <a:pt x="48" y="2"/>
                  </a:lnTo>
                  <a:lnTo>
                    <a:pt x="50" y="5"/>
                  </a:lnTo>
                  <a:cubicBezTo>
                    <a:pt x="50" y="5"/>
                    <a:pt x="23" y="26"/>
                    <a:pt x="0" y="20"/>
                  </a:cubicBezTo>
                  <a:cubicBezTo>
                    <a:pt x="21" y="30"/>
                    <a:pt x="54" y="10"/>
                    <a:pt x="54" y="10"/>
                  </a:cubicBezTo>
                  <a:lnTo>
                    <a:pt x="56" y="13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c8ce4"/>
                </a:gs>
                <a:gs pos="100000">
                  <a:srgbClr val="fcc7f1"/>
                </a:gs>
              </a:gsLst>
              <a:lin ang="108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02040" y="1117440"/>
              <a:ext cx="23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tá relacionada c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65560" y="691920"/>
            <a:ext cx="1933200" cy="340560"/>
          </a:xfrm>
          <a:prstGeom prst="rect">
            <a:avLst/>
          </a:prstGeom>
          <a:solidFill>
            <a:srgbClr val="c2f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plo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13200" y="1125360"/>
            <a:ext cx="386244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La isla de Kracatoa voló en pedaz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65920" y="1837800"/>
            <a:ext cx="2364480" cy="340560"/>
          </a:xfrm>
          <a:prstGeom prst="rect">
            <a:avLst/>
          </a:prstGeom>
          <a:solidFill>
            <a:srgbClr val="c2f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ubes ar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13200" y="2271600"/>
            <a:ext cx="314352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n Mont Pelé 28.000 victi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67360" y="2990520"/>
            <a:ext cx="2882520" cy="340560"/>
          </a:xfrm>
          <a:prstGeom prst="rect">
            <a:avLst/>
          </a:prstGeom>
          <a:solidFill>
            <a:srgbClr val="c2f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misión d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ases tóx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13200" y="3424320"/>
            <a:ext cx="299880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n Islandia 10.000 victi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78520" y="3933360"/>
            <a:ext cx="4520880" cy="340560"/>
          </a:xfrm>
          <a:prstGeom prst="rect">
            <a:avLst/>
          </a:prstGeom>
          <a:solidFill>
            <a:srgbClr val="c2f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rmación d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ladas de barr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la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24360" y="4367160"/>
            <a:ext cx="327672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rupción del Nevado del Ru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68280" y="1989000"/>
            <a:ext cx="3627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537080" cy="2843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203640" y="114480"/>
            <a:ext cx="27352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IESGO VOLCÁ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451600" y="420120"/>
            <a:ext cx="2294640" cy="1983960"/>
            <a:chOff x="2451600" y="420120"/>
            <a:chExt cx="2294640" cy="1983960"/>
          </a:xfrm>
        </p:grpSpPr>
        <p:sp>
          <p:nvSpPr>
            <p:cNvPr id="285" name=""/>
            <p:cNvSpPr/>
            <p:nvPr/>
          </p:nvSpPr>
          <p:spPr>
            <a:xfrm rot="444600">
              <a:off x="2554200" y="547560"/>
              <a:ext cx="2089080" cy="1729080"/>
            </a:xfrm>
            <a:prstGeom prst="irregularSeal2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01400" y="950040"/>
              <a:ext cx="109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¿Avisan los volcan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5076720" y="620640"/>
            <a:ext cx="230364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queños terremo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"/>
          <p:cNvCxnSpPr>
            <a:stCxn id="286" idx="3"/>
            <a:endCxn id="287" idx="1"/>
          </p:cNvCxnSpPr>
          <p:nvPr/>
        </p:nvCxnSpPr>
        <p:spPr>
          <a:xfrm flipV="1">
            <a:off x="4195440" y="788400"/>
            <a:ext cx="881640" cy="757800"/>
          </a:xfrm>
          <a:prstGeom prst="curvedConnector5">
            <a:avLst>
              <a:gd name="adj1" fmla="val 49877"/>
              <a:gd name="adj2" fmla="val 50000"/>
              <a:gd name="adj3" fmla="val 498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5508720" y="1002240"/>
            <a:ext cx="3168720" cy="833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r la ruptura de la cámara magmática y el desplazamiento del mag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19640" y="2060640"/>
            <a:ext cx="216072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Se inclina el terr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"/>
          <p:cNvCxnSpPr>
            <a:stCxn id="286" idx="3"/>
            <a:endCxn id="290" idx="1"/>
          </p:cNvCxnSpPr>
          <p:nvPr/>
        </p:nvCxnSpPr>
        <p:spPr>
          <a:xfrm>
            <a:off x="4195800" y="1546200"/>
            <a:ext cx="1024560" cy="682920"/>
          </a:xfrm>
          <a:prstGeom prst="curvedConnector5">
            <a:avLst>
              <a:gd name="adj1" fmla="val 49912"/>
              <a:gd name="adj2" fmla="val 50000"/>
              <a:gd name="adj3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5364000" y="2616120"/>
            <a:ext cx="3306960" cy="58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ascenso del magma abomba el edificio volcá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19640" y="3429000"/>
            <a:ext cx="360036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misión de gases y sube la temperatura del agua de los poz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86" idx="3"/>
            <a:endCxn id="293" idx="1"/>
          </p:cNvCxnSpPr>
          <p:nvPr/>
        </p:nvCxnSpPr>
        <p:spPr>
          <a:xfrm>
            <a:off x="4195800" y="1545840"/>
            <a:ext cx="1024560" cy="2174040"/>
          </a:xfrm>
          <a:prstGeom prst="curvedConnector5">
            <a:avLst>
              <a:gd name="adj1" fmla="val 49912"/>
              <a:gd name="adj2" fmla="val 50000"/>
              <a:gd name="adj3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08000" y="2133720"/>
            <a:ext cx="48956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VOLC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750960"/>
            <a:ext cx="4827600" cy="419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0" r="0" b="24090"/>
          <a:stretch/>
        </p:blipFill>
        <p:spPr>
          <a:xfrm>
            <a:off x="2943360" y="3441600"/>
            <a:ext cx="2136600" cy="1843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64000" y="1773360"/>
            <a:ext cx="3529080" cy="13136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olcá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Grieta en la superficie por la que salen materiales incandescentes del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30520" y="114480"/>
            <a:ext cx="20494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VOLC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7880" y="1244520"/>
            <a:ext cx="1727280" cy="4703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836640"/>
            <a:ext cx="1584360" cy="337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5900760"/>
            <a:ext cx="1584360" cy="337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9080" y="2083680"/>
            <a:ext cx="3273480" cy="1969920"/>
            <a:chOff x="19080" y="2083680"/>
            <a:chExt cx="3273480" cy="1969920"/>
          </a:xfrm>
        </p:grpSpPr>
        <p:sp>
          <p:nvSpPr>
            <p:cNvPr id="62" name=""/>
            <p:cNvSpPr/>
            <p:nvPr/>
          </p:nvSpPr>
          <p:spPr>
            <a:xfrm rot="444600">
              <a:off x="108000" y="2276640"/>
              <a:ext cx="3095280" cy="1584000"/>
            </a:xfrm>
            <a:prstGeom prst="irregularSeal2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18720" y="2646360"/>
              <a:ext cx="1621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¿Por qué se funden las rocas.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816280" y="1052640"/>
            <a:ext cx="2116080" cy="58068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R AUMENTO DE TEMPERA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1247760"/>
            <a:ext cx="432000" cy="236520"/>
          </a:xfrm>
          <a:custGeom>
            <a:avLst/>
            <a:gdLst>
              <a:gd name="textAreaLeft" fmla="*/ 67320 w 432000"/>
              <a:gd name="textAreaRight" fmla="*/ 378000 w 432000"/>
              <a:gd name="textAreaTop" fmla="*/ 59040 h 236520"/>
              <a:gd name="textAreaBottom" fmla="*/ 177480 h 236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508720" y="549360"/>
            <a:ext cx="3310560" cy="1905480"/>
            <a:chOff x="5508720" y="549360"/>
            <a:chExt cx="3310560" cy="1905480"/>
          </a:xfrm>
        </p:grpSpPr>
        <p:sp>
          <p:nvSpPr>
            <p:cNvPr id="67" name=""/>
            <p:cNvSpPr/>
            <p:nvPr/>
          </p:nvSpPr>
          <p:spPr>
            <a:xfrm>
              <a:off x="5516640" y="549360"/>
              <a:ext cx="3302640" cy="184032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08720" y="714960"/>
              <a:ext cx="330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egún se profundiza la temperatura aumenta. Aunque las altas presiones mantienen las rocas sólidas. Salvo donde la temperatura es mayor a la medi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816280" y="2624040"/>
            <a:ext cx="2116080" cy="58068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R DISMINUCIÓN DE LA PRE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2819520"/>
            <a:ext cx="432000" cy="236520"/>
          </a:xfrm>
          <a:custGeom>
            <a:avLst/>
            <a:gdLst>
              <a:gd name="textAreaLeft" fmla="*/ 67320 w 432000"/>
              <a:gd name="textAreaRight" fmla="*/ 378000 w 432000"/>
              <a:gd name="textAreaTop" fmla="*/ 59040 h 236520"/>
              <a:gd name="textAreaBottom" fmla="*/ 177480 h 236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508720" y="2565360"/>
            <a:ext cx="3310560" cy="779400"/>
            <a:chOff x="5508720" y="2565360"/>
            <a:chExt cx="3310560" cy="779400"/>
          </a:xfrm>
        </p:grpSpPr>
        <p:sp>
          <p:nvSpPr>
            <p:cNvPr id="72" name=""/>
            <p:cNvSpPr/>
            <p:nvPr/>
          </p:nvSpPr>
          <p:spPr>
            <a:xfrm>
              <a:off x="5516640" y="2565360"/>
              <a:ext cx="3302640" cy="77940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08720" y="2635200"/>
              <a:ext cx="330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l punto de fusión de una roca baja con la pres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817720" y="3573360"/>
            <a:ext cx="2116080" cy="82404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R INCORPORACIÓN DE AG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5440" y="3911760"/>
            <a:ext cx="431640" cy="236520"/>
          </a:xfrm>
          <a:custGeom>
            <a:avLst/>
            <a:gdLst>
              <a:gd name="textAreaLeft" fmla="*/ 67320 w 431640"/>
              <a:gd name="textAreaRight" fmla="*/ 378000 w 431640"/>
              <a:gd name="textAreaTop" fmla="*/ 59040 h 236520"/>
              <a:gd name="textAreaBottom" fmla="*/ 177480 h 236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510160" y="3657600"/>
            <a:ext cx="3310920" cy="781200"/>
            <a:chOff x="5510160" y="3657600"/>
            <a:chExt cx="3310920" cy="781200"/>
          </a:xfrm>
        </p:grpSpPr>
        <p:sp>
          <p:nvSpPr>
            <p:cNvPr id="77" name=""/>
            <p:cNvSpPr/>
            <p:nvPr/>
          </p:nvSpPr>
          <p:spPr>
            <a:xfrm>
              <a:off x="5518080" y="3657600"/>
              <a:ext cx="3303000" cy="78120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10160" y="3727800"/>
              <a:ext cx="330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a adición de agua disminuye el punto de fusión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211640" y="5589720"/>
            <a:ext cx="4750560" cy="720720"/>
            <a:chOff x="4211640" y="5589720"/>
            <a:chExt cx="4750560" cy="720720"/>
          </a:xfrm>
        </p:grpSpPr>
        <p:sp>
          <p:nvSpPr>
            <p:cNvPr id="80" name=""/>
            <p:cNvSpPr/>
            <p:nvPr/>
          </p:nvSpPr>
          <p:spPr>
            <a:xfrm>
              <a:off x="4223160" y="5589720"/>
              <a:ext cx="4739040" cy="72072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11640" y="5655960"/>
              <a:ext cx="473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íquido producto de la fusión de las rocas, que suele contener gases y sól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316240" y="6019920"/>
            <a:ext cx="1892520" cy="368280"/>
            <a:chOff x="2316240" y="6019920"/>
            <a:chExt cx="1892520" cy="368280"/>
          </a:xfrm>
        </p:grpSpPr>
        <p:cxnSp>
          <p:nvCxnSpPr>
            <p:cNvPr id="83" name=""/>
            <p:cNvCxnSpPr/>
            <p:nvPr/>
          </p:nvCxnSpPr>
          <p:spPr>
            <a:xfrm>
              <a:off x="2316240" y="6058800"/>
              <a:ext cx="11642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" name=""/>
            <p:cNvSpPr/>
            <p:nvPr/>
          </p:nvSpPr>
          <p:spPr>
            <a:xfrm>
              <a:off x="2442960" y="6019920"/>
              <a:ext cx="176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e define co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032360" cy="5181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VOLC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549360"/>
            <a:ext cx="464832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¿Cómo se produce una erupció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1149480"/>
            <a:ext cx="1584360" cy="337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64000" y="981000"/>
            <a:ext cx="3528720" cy="720720"/>
            <a:chOff x="3564000" y="981000"/>
            <a:chExt cx="3528720" cy="720720"/>
          </a:xfrm>
        </p:grpSpPr>
        <p:sp>
          <p:nvSpPr>
            <p:cNvPr id="90" name=""/>
            <p:cNvSpPr/>
            <p:nvPr/>
          </p:nvSpPr>
          <p:spPr>
            <a:xfrm>
              <a:off x="3572640" y="981000"/>
              <a:ext cx="3520080" cy="72072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64000" y="1047240"/>
              <a:ext cx="352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a parte líquida, otra parte de sólidos y una fracción de ga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316240" y="1268280"/>
            <a:ext cx="1218960" cy="368280"/>
            <a:chOff x="2316240" y="1268280"/>
            <a:chExt cx="1218960" cy="368280"/>
          </a:xfrm>
        </p:grpSpPr>
        <p:cxnSp>
          <p:nvCxnSpPr>
            <p:cNvPr id="93" name=""/>
            <p:cNvCxnSpPr/>
            <p:nvPr/>
          </p:nvCxnSpPr>
          <p:spPr>
            <a:xfrm>
              <a:off x="2316240" y="1307520"/>
              <a:ext cx="11642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" name=""/>
            <p:cNvSpPr/>
            <p:nvPr/>
          </p:nvSpPr>
          <p:spPr>
            <a:xfrm>
              <a:off x="2442960" y="126828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ontie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39640" y="5373720"/>
            <a:ext cx="460440" cy="433080"/>
            <a:chOff x="539640" y="5373720"/>
            <a:chExt cx="460440" cy="433080"/>
          </a:xfrm>
        </p:grpSpPr>
        <p:sp>
          <p:nvSpPr>
            <p:cNvPr id="96" name=""/>
            <p:cNvSpPr/>
            <p:nvPr/>
          </p:nvSpPr>
          <p:spPr>
            <a:xfrm>
              <a:off x="582480" y="5373720"/>
              <a:ext cx="37476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9640" y="540612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327560" y="1916280"/>
            <a:ext cx="460440" cy="433080"/>
            <a:chOff x="4327560" y="1916280"/>
            <a:chExt cx="460440" cy="433080"/>
          </a:xfrm>
        </p:grpSpPr>
        <p:sp>
          <p:nvSpPr>
            <p:cNvPr id="99" name=""/>
            <p:cNvSpPr/>
            <p:nvPr/>
          </p:nvSpPr>
          <p:spPr>
            <a:xfrm>
              <a:off x="4370400" y="1916280"/>
              <a:ext cx="37476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27560" y="194868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932360" y="1947240"/>
            <a:ext cx="3960720" cy="1080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magma se forma en zonas poco profundas. Su alta temperatura y el contenido en gases le hacen menos denso y se ele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8915000">
            <a:off x="1186920" y="4952880"/>
            <a:ext cx="895680" cy="708120"/>
          </a:xfrm>
          <a:custGeom>
            <a:avLst/>
            <a:gdLst/>
            <a:ahLst/>
            <a:rect l="l" t="t" r="r" b="b"/>
            <a:pathLst>
              <a:path w="63" h="30">
                <a:moveTo>
                  <a:pt x="63" y="0"/>
                </a:moveTo>
                <a:lnTo>
                  <a:pt x="48" y="2"/>
                </a:lnTo>
                <a:lnTo>
                  <a:pt x="50" y="5"/>
                </a:lnTo>
                <a:cubicBezTo>
                  <a:pt x="50" y="5"/>
                  <a:pt x="23" y="26"/>
                  <a:pt x="0" y="20"/>
                </a:cubicBezTo>
                <a:cubicBezTo>
                  <a:pt x="21" y="30"/>
                  <a:pt x="54" y="10"/>
                  <a:pt x="54" y="10"/>
                </a:cubicBezTo>
                <a:lnTo>
                  <a:pt x="56" y="13"/>
                </a:lnTo>
                <a:lnTo>
                  <a:pt x="63" y="0"/>
                </a:lnTo>
                <a:close/>
              </a:path>
            </a:pathLst>
          </a:custGeom>
          <a:gradFill rotWithShape="0">
            <a:gsLst>
              <a:gs pos="0">
                <a:srgbClr val="fc8ce4"/>
              </a:gs>
              <a:gs pos="100000">
                <a:srgbClr val="fcc7f1"/>
              </a:gs>
            </a:gsLst>
            <a:lin ang="108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39640" y="3645000"/>
            <a:ext cx="460440" cy="433080"/>
            <a:chOff x="539640" y="3645000"/>
            <a:chExt cx="460440" cy="433080"/>
          </a:xfrm>
        </p:grpSpPr>
        <p:sp>
          <p:nvSpPr>
            <p:cNvPr id="104" name=""/>
            <p:cNvSpPr/>
            <p:nvPr/>
          </p:nvSpPr>
          <p:spPr>
            <a:xfrm>
              <a:off x="582480" y="3645000"/>
              <a:ext cx="37476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9640" y="367740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356000" y="3209760"/>
            <a:ext cx="460440" cy="433080"/>
            <a:chOff x="4356000" y="3209760"/>
            <a:chExt cx="460440" cy="433080"/>
          </a:xfrm>
        </p:grpSpPr>
        <p:sp>
          <p:nvSpPr>
            <p:cNvPr id="107" name=""/>
            <p:cNvSpPr/>
            <p:nvPr/>
          </p:nvSpPr>
          <p:spPr>
            <a:xfrm>
              <a:off x="4398840" y="3209760"/>
              <a:ext cx="37476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56000" y="324216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960800" y="3281400"/>
            <a:ext cx="3961080" cy="58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su ascenso el magma se acumula en la cámara magmá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603520" y="3735360"/>
            <a:ext cx="1031400" cy="487080"/>
            <a:chOff x="2603520" y="3735360"/>
            <a:chExt cx="1031400" cy="487080"/>
          </a:xfrm>
        </p:grpSpPr>
        <p:sp>
          <p:nvSpPr>
            <p:cNvPr id="111" name=""/>
            <p:cNvSpPr/>
            <p:nvPr/>
          </p:nvSpPr>
          <p:spPr>
            <a:xfrm>
              <a:off x="2603520" y="3735360"/>
              <a:ext cx="1031400" cy="48708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30880" y="3749400"/>
              <a:ext cx="97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ámara magmát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 flipH="1" flipV="1">
            <a:off x="2195280" y="3860280"/>
            <a:ext cx="431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55640" y="2637000"/>
            <a:ext cx="460440" cy="433080"/>
            <a:chOff x="755640" y="2637000"/>
            <a:chExt cx="460440" cy="433080"/>
          </a:xfrm>
        </p:grpSpPr>
        <p:sp>
          <p:nvSpPr>
            <p:cNvPr id="115" name=""/>
            <p:cNvSpPr/>
            <p:nvPr/>
          </p:nvSpPr>
          <p:spPr>
            <a:xfrm>
              <a:off x="798480" y="2637000"/>
              <a:ext cx="37476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5640" y="266940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356000" y="4235400"/>
            <a:ext cx="460440" cy="433080"/>
            <a:chOff x="4356000" y="4235400"/>
            <a:chExt cx="460440" cy="433080"/>
          </a:xfrm>
        </p:grpSpPr>
        <p:sp>
          <p:nvSpPr>
            <p:cNvPr id="118" name=""/>
            <p:cNvSpPr/>
            <p:nvPr/>
          </p:nvSpPr>
          <p:spPr>
            <a:xfrm>
              <a:off x="4398840" y="4235400"/>
              <a:ext cx="37476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56000" y="426780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60800" y="4259880"/>
            <a:ext cx="3961080" cy="833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ando la cámara magmática está llena nuevos aportes de magma provocan la eru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011560" y="5157720"/>
            <a:ext cx="3953160" cy="665280"/>
            <a:chOff x="5011560" y="5157720"/>
            <a:chExt cx="3953160" cy="665280"/>
          </a:xfrm>
        </p:grpSpPr>
        <p:sp>
          <p:nvSpPr>
            <p:cNvPr id="122" name=""/>
            <p:cNvSpPr/>
            <p:nvPr/>
          </p:nvSpPr>
          <p:spPr>
            <a:xfrm>
              <a:off x="5148360" y="5175360"/>
              <a:ext cx="3673440" cy="64764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11560" y="5157720"/>
              <a:ext cx="395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umenta la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resión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en la cámara, sus paredes se dilatan y fractura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016600" y="5932440"/>
            <a:ext cx="3952800" cy="665280"/>
            <a:chOff x="5016600" y="5932440"/>
            <a:chExt cx="3952800" cy="665280"/>
          </a:xfrm>
        </p:grpSpPr>
        <p:sp>
          <p:nvSpPr>
            <p:cNvPr id="125" name=""/>
            <p:cNvSpPr/>
            <p:nvPr/>
          </p:nvSpPr>
          <p:spPr>
            <a:xfrm>
              <a:off x="5153040" y="5950080"/>
              <a:ext cx="3673080" cy="64764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16600" y="5932440"/>
              <a:ext cx="39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os gases se escapan y arrastran el resto del mag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7" name=""/>
          <p:cNvCxnSpPr>
            <a:stCxn id="120" idx="1"/>
            <a:endCxn id="123" idx="1"/>
          </p:cNvCxnSpPr>
          <p:nvPr/>
        </p:nvCxnSpPr>
        <p:spPr>
          <a:xfrm flipH="1" flipV="1" rot="10800000">
            <a:off x="4959720" y="4675680"/>
            <a:ext cx="51480" cy="802440"/>
          </a:xfrm>
          <a:prstGeom prst="curvedConnector5">
            <a:avLst>
              <a:gd name="adj1" fmla="val -450000"/>
              <a:gd name="adj2" fmla="val 50000"/>
              <a:gd name="adj3" fmla="val -4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0" idx="1"/>
            <a:endCxn id="126" idx="1"/>
          </p:cNvCxnSpPr>
          <p:nvPr/>
        </p:nvCxnSpPr>
        <p:spPr>
          <a:xfrm flipH="1" flipV="1" rot="10800000">
            <a:off x="4959720" y="4675680"/>
            <a:ext cx="56520" cy="1577160"/>
          </a:xfrm>
          <a:prstGeom prst="curvedConnector5">
            <a:avLst>
              <a:gd name="adj1" fmla="val -628205"/>
              <a:gd name="adj2" fmla="val 50000"/>
              <a:gd name="adj3" fmla="val -6282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800520" y="5084640"/>
            <a:ext cx="9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do a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VOLC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549360"/>
            <a:ext cx="324036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roductos volcán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1522440"/>
            <a:ext cx="5562720" cy="4173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172200" y="1905120"/>
            <a:ext cx="2730600" cy="182376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5562720" y="549360"/>
            <a:ext cx="3276360" cy="1238400"/>
            <a:chOff x="5562720" y="549360"/>
            <a:chExt cx="3276360" cy="1238400"/>
          </a:xfrm>
        </p:grpSpPr>
        <p:sp>
          <p:nvSpPr>
            <p:cNvPr id="135" name=""/>
            <p:cNvSpPr/>
            <p:nvPr/>
          </p:nvSpPr>
          <p:spPr>
            <a:xfrm>
              <a:off x="5562720" y="841320"/>
              <a:ext cx="3276360" cy="94644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ezcla de rocas fundidas y fragmentos sólidos que no contiene gases. Forman corrientes llamadas col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19840" y="549360"/>
              <a:ext cx="762120" cy="336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65000"/>
                  </a:solidFill>
                  <a:latin typeface="Arial"/>
                </a:rPr>
                <a:t>LA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282680"/>
            <a:ext cx="2819520" cy="812160"/>
            <a:chOff x="228600" y="1282680"/>
            <a:chExt cx="2819520" cy="812160"/>
          </a:xfrm>
        </p:grpSpPr>
        <p:sp>
          <p:nvSpPr>
            <p:cNvPr id="138" name=""/>
            <p:cNvSpPr/>
            <p:nvPr/>
          </p:nvSpPr>
          <p:spPr>
            <a:xfrm>
              <a:off x="228600" y="1574640"/>
              <a:ext cx="2819520" cy="52020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Los más abundantes son dióxido de carbono y vapor de agu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81160" y="1282680"/>
              <a:ext cx="914400" cy="336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65000"/>
                  </a:solidFill>
                  <a:latin typeface="Arial"/>
                </a:rPr>
                <a:t>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17520" y="4749840"/>
            <a:ext cx="15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6600"/>
                </a:solidFill>
                <a:latin typeface="Arial"/>
              </a:rPr>
              <a:t>Ceni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7520" y="5397480"/>
            <a:ext cx="15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6600"/>
                </a:solidFill>
                <a:latin typeface="Arial"/>
              </a:rPr>
              <a:t>Lapi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60451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6600"/>
                </a:solidFill>
                <a:latin typeface="Arial"/>
              </a:rPr>
              <a:t>Blo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4991040"/>
            <a:ext cx="18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Tamaño de are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5676840"/>
            <a:ext cx="18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Tamaño de gra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63244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Fragmentos de gran tam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1362400">
            <a:off x="2971800" y="1904760"/>
            <a:ext cx="1471680" cy="1212840"/>
          </a:xfrm>
          <a:custGeom>
            <a:avLst/>
            <a:gdLst/>
            <a:ahLst/>
            <a:rect l="l" t="t" r="r" b="b"/>
            <a:pathLst>
              <a:path w="927" h="764">
                <a:moveTo>
                  <a:pt x="889" y="764"/>
                </a:moveTo>
                <a:lnTo>
                  <a:pt x="169" y="284"/>
                </a:lnTo>
                <a:lnTo>
                  <a:pt x="101" y="335"/>
                </a:lnTo>
                <a:lnTo>
                  <a:pt x="0" y="0"/>
                </a:lnTo>
                <a:lnTo>
                  <a:pt x="350" y="39"/>
                </a:lnTo>
                <a:lnTo>
                  <a:pt x="296" y="117"/>
                </a:lnTo>
                <a:lnTo>
                  <a:pt x="927" y="709"/>
                </a:lnTo>
                <a:lnTo>
                  <a:pt x="889" y="764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6600"/>
              </a:gs>
            </a:gsLst>
            <a:lin ang="13500000"/>
          </a:gradFill>
          <a:ln w="936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348000">
            <a:off x="5028840" y="1980720"/>
            <a:ext cx="1471680" cy="1212840"/>
          </a:xfrm>
          <a:custGeom>
            <a:avLst/>
            <a:gdLst/>
            <a:ahLst/>
            <a:rect l="l" t="t" r="r" b="b"/>
            <a:pathLst>
              <a:path w="927" h="764">
                <a:moveTo>
                  <a:pt x="889" y="764"/>
                </a:moveTo>
                <a:lnTo>
                  <a:pt x="169" y="284"/>
                </a:lnTo>
                <a:lnTo>
                  <a:pt x="101" y="335"/>
                </a:lnTo>
                <a:lnTo>
                  <a:pt x="0" y="0"/>
                </a:lnTo>
                <a:lnTo>
                  <a:pt x="350" y="39"/>
                </a:lnTo>
                <a:lnTo>
                  <a:pt x="296" y="117"/>
                </a:lnTo>
                <a:lnTo>
                  <a:pt x="927" y="709"/>
                </a:lnTo>
                <a:lnTo>
                  <a:pt x="889" y="764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835200">
            <a:off x="2438280" y="3276000"/>
            <a:ext cx="1471680" cy="1212840"/>
          </a:xfrm>
          <a:custGeom>
            <a:avLst/>
            <a:gdLst/>
            <a:ahLst/>
            <a:rect l="l" t="t" r="r" b="b"/>
            <a:pathLst>
              <a:path w="927" h="764">
                <a:moveTo>
                  <a:pt x="889" y="764"/>
                </a:moveTo>
                <a:lnTo>
                  <a:pt x="169" y="284"/>
                </a:lnTo>
                <a:lnTo>
                  <a:pt x="101" y="335"/>
                </a:lnTo>
                <a:lnTo>
                  <a:pt x="0" y="0"/>
                </a:lnTo>
                <a:lnTo>
                  <a:pt x="350" y="39"/>
                </a:lnTo>
                <a:lnTo>
                  <a:pt x="296" y="117"/>
                </a:lnTo>
                <a:lnTo>
                  <a:pt x="927" y="709"/>
                </a:lnTo>
                <a:lnTo>
                  <a:pt x="889" y="764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6600"/>
              </a:gs>
            </a:gsLst>
            <a:lin ang="8100000"/>
          </a:gradFill>
          <a:ln w="936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28600" y="4368960"/>
            <a:ext cx="2666880" cy="2336760"/>
            <a:chOff x="228600" y="4368960"/>
            <a:chExt cx="2666880" cy="2336760"/>
          </a:xfrm>
        </p:grpSpPr>
        <p:grpSp>
          <p:nvGrpSpPr>
            <p:cNvPr id="150" name=""/>
            <p:cNvGrpSpPr/>
            <p:nvPr/>
          </p:nvGrpSpPr>
          <p:grpSpPr>
            <a:xfrm>
              <a:off x="228600" y="4368960"/>
              <a:ext cx="2666880" cy="2336760"/>
              <a:chOff x="228600" y="4368960"/>
              <a:chExt cx="2666880" cy="2336760"/>
            </a:xfrm>
          </p:grpSpPr>
          <p:sp>
            <p:nvSpPr>
              <p:cNvPr id="151" name=""/>
              <p:cNvSpPr/>
              <p:nvPr/>
            </p:nvSpPr>
            <p:spPr>
              <a:xfrm>
                <a:off x="228600" y="4572000"/>
                <a:ext cx="2666880" cy="213372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4920" y="4368960"/>
                <a:ext cx="1676160" cy="33624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65000"/>
                    </a:solidFill>
                    <a:latin typeface="Arial"/>
                  </a:rPr>
                  <a:t>PIROCLAST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 flipH="1" flipV="1">
              <a:off x="2894040" y="4997520"/>
              <a:ext cx="1440" cy="869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362320" y="5257800"/>
            <a:ext cx="3504960" cy="1357200"/>
            <a:chOff x="2362320" y="5257800"/>
            <a:chExt cx="3504960" cy="135720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3657600" y="5257800"/>
              <a:ext cx="220968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362320" y="6248520"/>
              <a:ext cx="121896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084720" y="5516640"/>
            <a:ext cx="153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6600"/>
                </a:solidFill>
                <a:latin typeface="Arial"/>
              </a:rPr>
              <a:t>Bomb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440" y="580536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Son bloques con forma redondeada o de hu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VOLC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35280" y="765000"/>
            <a:ext cx="1800360" cy="576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835280" y="1503360"/>
            <a:ext cx="58323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9" dur="28784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4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ELIEVE VOLCÁ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43000" y="933480"/>
            <a:ext cx="6858000" cy="3960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H="1">
            <a:off x="5333760" y="933480"/>
            <a:ext cx="1600200" cy="8380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29000" y="4514400"/>
            <a:ext cx="914400" cy="7621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523880" y="2990520"/>
            <a:ext cx="2895840" cy="3049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704880"/>
            <a:ext cx="2895840" cy="4572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35244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Times New Roman"/>
              </a:rPr>
              <a:t>Conducto de salida del mag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93348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Times New Roman"/>
              </a:rPr>
              <a:t>Orificio superficial por el que salen los productos volcán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108576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Times New Roman"/>
              </a:rPr>
              <a:t>Edificio formado por la acumulación de los materiales volcán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5048280"/>
            <a:ext cx="2057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Times New Roman"/>
              </a:rPr>
              <a:t>Cámara mag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628560"/>
            <a:ext cx="2057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Times New Roman"/>
              </a:rPr>
              <a:t>Cono volcá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47628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Times New Roman"/>
              </a:rPr>
              <a:t>Crá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3143160"/>
            <a:ext cx="129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Times New Roman"/>
              </a:rPr>
              <a:t>Chime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9640" y="53942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Times New Roman"/>
              </a:rPr>
              <a:t>Depósito donde se acumula el magma antes de salir al ex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27320" y="3789360"/>
            <a:ext cx="2273400" cy="1720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50920" y="4869000"/>
            <a:ext cx="1820880" cy="1760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ELIEVE VOLCÁ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549360"/>
            <a:ext cx="237672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dificios volcán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71640" y="568080"/>
            <a:ext cx="6048360" cy="340560"/>
          </a:xfrm>
          <a:prstGeom prst="rect">
            <a:avLst/>
          </a:prstGeom>
          <a:solidFill>
            <a:srgbClr val="3ae8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penden del tipo de materiales que expulse el volc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1916280"/>
            <a:ext cx="165600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ONO DE PIROCLA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79" idx="2"/>
            <a:endCxn id="181" idx="0"/>
          </p:cNvCxnSpPr>
          <p:nvPr/>
        </p:nvCxnSpPr>
        <p:spPr>
          <a:xfrm rot="5400000">
            <a:off x="672120" y="1220760"/>
            <a:ext cx="1031040" cy="361080"/>
          </a:xfrm>
          <a:prstGeom prst="curvedConnector5">
            <a:avLst>
              <a:gd name="adj1" fmla="val 49912"/>
              <a:gd name="adj2" fmla="val 50000"/>
              <a:gd name="adj3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2556000" y="1916280"/>
            <a:ext cx="136836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SCU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79" idx="2"/>
            <a:endCxn id="183" idx="0"/>
          </p:cNvCxnSpPr>
          <p:nvPr/>
        </p:nvCxnSpPr>
        <p:spPr>
          <a:xfrm flipH="1" rot="16200000">
            <a:off x="1788120" y="465120"/>
            <a:ext cx="1031040" cy="1872360"/>
          </a:xfrm>
          <a:prstGeom prst="curvedConnector5">
            <a:avLst>
              <a:gd name="adj1" fmla="val 49912"/>
              <a:gd name="adj2" fmla="val 50000"/>
              <a:gd name="adj3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4429080" y="1773360"/>
            <a:ext cx="201456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STRATOVOLCÁ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79" idx="2"/>
            <a:endCxn id="185" idx="0"/>
          </p:cNvCxnSpPr>
          <p:nvPr/>
        </p:nvCxnSpPr>
        <p:spPr>
          <a:xfrm flipH="1" rot="16200000">
            <a:off x="2958840" y="-705240"/>
            <a:ext cx="888120" cy="4069440"/>
          </a:xfrm>
          <a:prstGeom prst="curvedConnector5">
            <a:avLst>
              <a:gd name="adj1" fmla="val 49878"/>
              <a:gd name="adj2" fmla="val 49995"/>
              <a:gd name="adj3" fmla="val 498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179280" y="2637000"/>
            <a:ext cx="1944720" cy="2228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 poca altura y paredes muy empinadas ya que los piroclastos están sue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2421000"/>
            <a:ext cx="1944720" cy="13136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o con base muy amplia, se forma por lava muy fl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7640" y="2276640"/>
            <a:ext cx="2160360" cy="2228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alternan capas de piroclastos y coladas, le dan consistencia y alcanzan gran a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427640" y="4508640"/>
            <a:ext cx="2043000" cy="1671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524720" y="1795320"/>
            <a:ext cx="100800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DO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79" idx="2"/>
            <a:endCxn id="191" idx="0"/>
          </p:cNvCxnSpPr>
          <p:nvPr/>
        </p:nvCxnSpPr>
        <p:spPr>
          <a:xfrm flipH="1" rot="16200000">
            <a:off x="4243320" y="-1990080"/>
            <a:ext cx="910080" cy="6661800"/>
          </a:xfrm>
          <a:prstGeom prst="curvedConnector5">
            <a:avLst>
              <a:gd name="adj1" fmla="val 49901"/>
              <a:gd name="adj2" fmla="val 50000"/>
              <a:gd name="adj3" fmla="val 499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804000" y="2298600"/>
            <a:ext cx="2160720" cy="19234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dificio redondeado en forma de cúpula al solidificarse la lava muy viscosa en el crá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6645240" y="4365720"/>
            <a:ext cx="23907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77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0" dur="770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2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4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ELIEVE VOLCÁ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549360"/>
            <a:ext cx="151308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Cald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971800" cy="5029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979640" y="568080"/>
            <a:ext cx="6553080" cy="340560"/>
          </a:xfrm>
          <a:prstGeom prst="rect">
            <a:avLst/>
          </a:prstGeom>
          <a:solidFill>
            <a:srgbClr val="3ae8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presiones circulares de diámetro muy superior al del crá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64000" y="1125360"/>
            <a:ext cx="129528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ldera de explo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57920" y="1125360"/>
            <a:ext cx="4105080" cy="703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dificio volcánico vuela por una explo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64000" y="2222640"/>
            <a:ext cx="129528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ldera de ero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57920" y="2222640"/>
            <a:ext cx="4105080" cy="703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aguas superficiales retiran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64000" y="3279600"/>
            <a:ext cx="129528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ldera de colap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03640" y="3284640"/>
            <a:ext cx="4105440" cy="1008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hunde el edificio volcánico por acumulación de materiales sobre una cámara magmática semivac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44:10Z</dcterms:created>
  <dc:creator>alberto</dc:creator>
  <dc:description/>
  <dc:language>en-US</dc:language>
  <cp:lastModifiedBy>Alberto</cp:lastModifiedBy>
  <dcterms:modified xsi:type="dcterms:W3CDTF">2009-04-02T08:15:12Z</dcterms:modified>
  <cp:revision>133</cp:revision>
  <dc:subject/>
  <dc:title>Diapositiva 1</dc:title>
</cp:coreProperties>
</file>